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CA61-9ABD-4A3C-9567-01F235322903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A034-9977-410E-9F39-BE70A492F6D8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D45E-DF56-4AD5-8FAC-8AEAA7884E85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2271-A892-4D0A-BC1F-5B997A53BEE6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E166-1A4B-436D-A71B-E6AC71DF38C6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9E8D-41E1-4031-BE59-9C0FB164FF32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0B1B-6ED1-4C8B-BFD3-4CA88188157A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5D98-DC43-4FCA-A468-B0443DE84992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81E7-E36E-4EEC-8BB0-95CA216A6ABF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1FCF-3BD6-488B-A9E3-2B45B0D619B0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6E54-935C-4985-AA45-EC46D1DE975E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5D45-EF35-4A01-B3AC-4795B8986DB8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C24D-14C0-48F2-ACA8-15ABE52A51A1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BAE3-0E76-43B7-9577-E7C5D2390DD0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1ECE-2451-4217-B8D0-0A0BBF93C715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EC09-CF3C-4A24-9D71-28B79E352D88}" type="slidenum">
              <a:rPr b="0" lang="be-B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130-5A15-4351-AC94-D6FC15B7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C46-0946-4B0B-A20E-3D36FCFA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F59-FE54-4D73-914E-DE980015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6E8-180F-4D11-AC88-7BB9AC7F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30D-B5B2-4BBA-8B15-A48D341A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A3A-6310-495E-B230-0CC52093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8BD-6CEC-403E-AD0A-00B4B781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3DF-4E8A-4512-99A3-D416F9F9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72C-61F4-45A8-AEB8-1C10F813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32E-3447-484B-8F9D-F96668F4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DC2-F9BD-4DA4-85FE-CE209F91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076-610C-491E-9C4E-B9345A1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70F7-A5DE-4E95-97F7-572B4BDAD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85800" y="981000"/>
            <a:ext cx="77724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піграф: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403280" y="2708280"/>
            <a:ext cx="64008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лі нехта хоча, каб яго лічылі добрым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1476360" y="3716280"/>
            <a:ext cx="5819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хай робіць добрыя справы 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4859280" y="472428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У. Караткевіч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Документы\Трухан А.А\языковеды-белорусы\Картинки\10001.jpg"/>
          <p:cNvPicPr/>
          <p:nvPr/>
        </p:nvPicPr>
        <p:blipFill>
          <a:blip r:embed="rId2"/>
          <a:stretch/>
        </p:blipFill>
        <p:spPr>
          <a:xfrm>
            <a:off x="6143760" y="285840"/>
            <a:ext cx="2384280" cy="305100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pic>
        <p:nvPicPr>
          <p:cNvPr id="87" name="Picture 3" descr="D:\Документы\Трухан А.А\языковеды-белорусы\Картинки\10002.jpg"/>
          <p:cNvPicPr/>
          <p:nvPr/>
        </p:nvPicPr>
        <p:blipFill>
          <a:blip r:embed="rId3"/>
          <a:stretch/>
        </p:blipFill>
        <p:spPr>
          <a:xfrm>
            <a:off x="3214800" y="285840"/>
            <a:ext cx="2317680" cy="29653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pic>
        <p:nvPicPr>
          <p:cNvPr id="88" name="Picture 4" descr="D:\Документы\Трухан А.А\языковеды-белорусы\Картинки\10003.jpg"/>
          <p:cNvPicPr/>
          <p:nvPr/>
        </p:nvPicPr>
        <p:blipFill>
          <a:blip r:embed="rId4"/>
          <a:stretch/>
        </p:blipFill>
        <p:spPr>
          <a:xfrm>
            <a:off x="3214800" y="3571920"/>
            <a:ext cx="2360520" cy="30193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pic>
        <p:nvPicPr>
          <p:cNvPr id="89" name="Picture 5" descr="D:\Документы\Трухан А.А\языковеды-белорусы\Картинки\10004.jpg"/>
          <p:cNvPicPr/>
          <p:nvPr/>
        </p:nvPicPr>
        <p:blipFill>
          <a:blip r:embed="rId5"/>
          <a:stretch/>
        </p:blipFill>
        <p:spPr>
          <a:xfrm>
            <a:off x="281160" y="3571920"/>
            <a:ext cx="2361960" cy="302256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pic>
        <p:nvPicPr>
          <p:cNvPr id="90" name="Picture 6" descr="D:\Документы\Трухан А.А\языковеды-белорусы\Картинки\10005.jpg"/>
          <p:cNvPicPr/>
          <p:nvPr/>
        </p:nvPicPr>
        <p:blipFill>
          <a:blip r:embed="rId6"/>
          <a:stretch/>
        </p:blipFill>
        <p:spPr>
          <a:xfrm>
            <a:off x="6143760" y="3571920"/>
            <a:ext cx="2347920" cy="3003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pic>
        <p:nvPicPr>
          <p:cNvPr id="91" name="Picture 7" descr="D:\Документы\Трухан А.А\языковеды-белорусы\Картинки\10006.jpg"/>
          <p:cNvPicPr/>
          <p:nvPr/>
        </p:nvPicPr>
        <p:blipFill>
          <a:blip r:embed="rId7"/>
          <a:stretch/>
        </p:blipFill>
        <p:spPr>
          <a:xfrm>
            <a:off x="357120" y="285840"/>
            <a:ext cx="2344680" cy="30002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95280" y="539280"/>
            <a:ext cx="8748720" cy="55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 u="sng">
                <a:solidFill>
                  <a:srgbClr val="333399"/>
                </a:solidFill>
                <a:uFillTx/>
                <a:latin typeface="Arial"/>
              </a:rPr>
              <a:t>Заданне   </a:t>
            </a:r>
            <a:r>
              <a:rPr b="1" i="1" lang="be-BY" sz="2800" spc="-1" strike="noStrike">
                <a:solidFill>
                  <a:srgbClr val="333399"/>
                </a:solidFill>
                <a:latin typeface="Arial"/>
              </a:rPr>
              <a:t>“  Карэктар</a:t>
            </a: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336600"/>
              </a:buClr>
              <a:buFont typeface="Arial"/>
              <a:buAutoNum type="arabicPeriod"/>
              <a:tabLst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 u="sng">
                <a:solidFill>
                  <a:srgbClr val="336600"/>
                </a:solidFill>
                <a:uFillTx/>
                <a:latin typeface="Arial"/>
              </a:rPr>
              <a:t>Выпраўце  памылкі ў  будове  сказа  і  сх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336600"/>
              </a:buClr>
              <a:buFont typeface="Arial"/>
              <a:buAutoNum type="arabicPeriod"/>
              <a:tabLst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1.Снег ажно  ззяе  ў  сонечных  промнях, што наліп  на  бяр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333399"/>
                </a:solidFill>
                <a:latin typeface="Arial"/>
              </a:rPr>
              <a:t>як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be-BY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[……]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(што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2 Чуваць</a:t>
            </a:r>
            <a:r>
              <a:rPr b="1" lang="be-BY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галасы  птушак, калі  добра  ўслухаешся  ў  лясное  наваколле, якія  яшчэ  не  не  адлятаюць  ў  вы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кал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?      як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[    ]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(кал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…),(як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24000" y="1186560"/>
            <a:ext cx="8569080" cy="48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be-BY" sz="3200" spc="-1" strike="noStrike" u="sng">
                <a:solidFill>
                  <a:srgbClr val="333399"/>
                </a:solidFill>
                <a:uFillTx/>
                <a:latin typeface="Arial"/>
              </a:rPr>
              <a:t>Снег</a:t>
            </a:r>
            <a:r>
              <a:rPr b="1" lang="be-BY" sz="3200" spc="-1" strike="noStrike">
                <a:solidFill>
                  <a:srgbClr val="333399"/>
                </a:solidFill>
                <a:latin typeface="Arial"/>
              </a:rPr>
              <a:t>,  што наліп  на  бярозы,  ажно  ззяе  ў  сонечных  промн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к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[</a:t>
            </a:r>
            <a:r>
              <a:rPr b="1" lang="be-BY" sz="2800" spc="-1" strike="noStrike">
                <a:solidFill>
                  <a:srgbClr val="cc0000"/>
                </a:solidFill>
                <a:latin typeface="Arial"/>
              </a:rPr>
              <a:t>наз,(       ),…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333399"/>
                </a:solidFill>
                <a:latin typeface="Arial"/>
              </a:rPr>
              <a:t>2 Калі  добра  ўслухаешся  ў  лясное  наваколле, </a:t>
            </a:r>
            <a:r>
              <a:rPr b="1" lang="be-BY" sz="3200" spc="-1" strike="noStrike" u="sng">
                <a:solidFill>
                  <a:srgbClr val="333399"/>
                </a:solidFill>
                <a:uFillTx/>
                <a:latin typeface="Arial"/>
              </a:rPr>
              <a:t>чуваць</a:t>
            </a:r>
            <a:r>
              <a:rPr b="1" lang="be-BY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be-BY" sz="3200" spc="-1" strike="noStrike" u="sng">
                <a:solidFill>
                  <a:srgbClr val="333399"/>
                </a:solidFill>
                <a:uFillTx/>
                <a:latin typeface="Arial"/>
              </a:rPr>
              <a:t>галасы  </a:t>
            </a:r>
            <a:r>
              <a:rPr b="1" lang="be-BY" sz="3200" spc="-1" strike="noStrike">
                <a:solidFill>
                  <a:srgbClr val="333399"/>
                </a:solidFill>
                <a:latin typeface="Arial"/>
              </a:rPr>
              <a:t>птушак,  якія  яшчэ    не  адлятаюць  ў  вы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ал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?           як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кал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..),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з…..наз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,(як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"/>
          <p:cNvSpPr/>
          <p:nvPr/>
        </p:nvSpPr>
        <p:spPr>
          <a:xfrm>
            <a:off x="4405320" y="2725560"/>
            <a:ext cx="539640" cy="398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4505400" y="2811600"/>
            <a:ext cx="341280" cy="218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763200" y="1771200"/>
            <a:ext cx="7620840" cy="332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333399"/>
                </a:solidFill>
                <a:latin typeface="Arial"/>
              </a:rPr>
              <a:t>Тэму  зразумела (ў):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00ff"/>
                </a:solidFill>
                <a:latin typeface="Arial"/>
              </a:rPr>
              <a:t>Тэму  зразумела (ў) часткова:</a:t>
            </a:r>
            <a:r>
              <a:rPr b="1" lang="be-BY" sz="3200" spc="-1" strike="noStrike">
                <a:solidFill>
                  <a:srgbClr val="9900ff"/>
                </a:solidFill>
                <a:latin typeface="Arial"/>
              </a:rPr>
              <a:t>	</a:t>
            </a:r>
            <a:r>
              <a:rPr b="1" lang="be-BY" sz="3200" spc="-1" strike="noStrike">
                <a:solidFill>
                  <a:srgbClr val="9900ff"/>
                </a:solidFill>
                <a:latin typeface="Arial"/>
              </a:rPr>
              <a:t>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Тэму не зразумела (ў) :……………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685800" y="981000"/>
            <a:ext cx="77724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піграф: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3"/>
          <p:cNvSpPr txBox="1"/>
          <p:nvPr/>
        </p:nvSpPr>
        <p:spPr>
          <a:xfrm>
            <a:off x="1403280" y="2708280"/>
            <a:ext cx="64008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лі нехта хоча, каб яго лічылі добрым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476360" y="3716280"/>
            <a:ext cx="5819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хай робіць добрыя справы 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4859280" y="472428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У. Караткевіч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663480" y="333360"/>
            <a:ext cx="77961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амашняе        заданн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95280" y="1977480"/>
            <a:ext cx="83534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be-BY" sz="3600" spc="-1" strike="noStrike" u="sng">
                <a:solidFill>
                  <a:srgbClr val="cc0000"/>
                </a:solidFill>
                <a:uFillTx/>
                <a:latin typeface="Arial"/>
              </a:rPr>
              <a:t>на  выб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22120" algn="ctr">
              <a:buClr>
                <a:srgbClr val="333399"/>
              </a:buClr>
              <a:buFont typeface="Arial"/>
              <a:buAutoNum type="arabicPeriod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 u="sng">
                <a:solidFill>
                  <a:srgbClr val="333399"/>
                </a:solidFill>
                <a:uFillTx/>
                <a:latin typeface="Arial"/>
              </a:rPr>
              <a:t>Знайсці і выпісаць 6 загадак або 6 прыказак, якія паводле будовы з'яўляюцца складаназалежнымі сказам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2120" algn="ctr">
              <a:buClr>
                <a:srgbClr val="333399"/>
              </a:buClr>
              <a:buFont typeface="Arial"/>
              <a:buAutoNum type="arabicPeriod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 u="sng">
                <a:solidFill>
                  <a:srgbClr val="336600"/>
                </a:solidFill>
                <a:uFillTx/>
                <a:latin typeface="Arial"/>
              </a:rPr>
              <a:t>2.</a:t>
            </a:r>
            <a:r>
              <a:rPr b="0" lang="be-BY" sz="2800" spc="-1" strike="noStrike" u="sng">
                <a:solidFill>
                  <a:srgbClr val="336600"/>
                </a:solidFill>
                <a:uFillTx/>
                <a:latin typeface="Arial"/>
              </a:rPr>
              <a:t>	</a:t>
            </a:r>
            <a:r>
              <a:rPr b="0" lang="be-BY" sz="2800" spc="-1" strike="noStrike" u="sng">
                <a:solidFill>
                  <a:srgbClr val="336600"/>
                </a:solidFill>
                <a:uFillTx/>
                <a:latin typeface="Arial"/>
              </a:rPr>
              <a:t>Скласці выказванне на тэму эпіграфа,выкарыстоўваючы складаназалежныя сказы</a:t>
            </a:r>
            <a:r>
              <a:rPr b="0" lang="be-BY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68360" y="692280"/>
            <a:ext cx="8229600" cy="20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істэматызацыя ведаў  па  тэме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611280" y="3068640"/>
            <a:ext cx="82296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Складаназалежныя  сказы"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Выпрацоўваць уменне будаваць складаназалежныя сказы з рознымі відамі сувязі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развіваць лагічнае мысленне, фантазію, маўленчую культуру, вучыць працаваць у калектыве, групах, пар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абуджаць імкненне рабіць дабро, выхоўваць пачуццё прыгожага, цудоўнага, паважлівае стаўленне да роднага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эты і задачы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7"/>
          <p:cNvSpPr txBox="1"/>
          <p:nvPr/>
        </p:nvSpPr>
        <p:spPr>
          <a:xfrm>
            <a:off x="1187280" y="1700280"/>
            <a:ext cx="698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ладаналалежныя  сказы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4140360" y="620640"/>
            <a:ext cx="39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  Месца   даданага  ска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900000" y="2781360"/>
            <a:ext cx="56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 Злучнікі  і  злучальныя  словы              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195640" y="4187880"/>
            <a:ext cx="6121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    Віды  даданых  сказаў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114480" y="5175360"/>
            <a:ext cx="726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 Нераўнапраўныя  часткі    (галоўная  і  даданая)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539640" y="189000"/>
            <a:ext cx="47786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   наяўнасць   дзвюх  і  больш  частак</a:t>
            </a:r>
            <a:endParaRPr b="0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-32760" y="29880"/>
            <a:ext cx="339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26280" y="1144080"/>
            <a:ext cx="38458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1800" y="2501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5760" y="3432960"/>
            <a:ext cx="8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0" y="3846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1225440" y="765000"/>
            <a:ext cx="6659640" cy="105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не  № 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50920" y="1745280"/>
            <a:ext cx="871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0" lang="be-BY" sz="2400" spc="-1" strike="noStrike" u="sng">
                <a:solidFill>
                  <a:srgbClr val="cc0000"/>
                </a:solidFill>
                <a:uFillTx/>
                <a:latin typeface="Arial"/>
              </a:rPr>
              <a:t>Запішыце     першую     частку           складанага 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be-BY" sz="24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be-BY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be-BY" sz="2400" spc="-1" strike="noStrike">
                <a:solidFill>
                  <a:srgbClr val="cc0000"/>
                </a:solidFill>
                <a:latin typeface="Arial"/>
              </a:rPr>
              <a:t>Самастойна прыдумайце друг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0" lang="be-BY" sz="2400" spc="-1" strike="noStrike">
                <a:solidFill>
                  <a:srgbClr val="333399"/>
                </a:solidFill>
                <a:latin typeface="Arial"/>
              </a:rPr>
              <a:t>а)</a:t>
            </a:r>
            <a:r>
              <a:rPr b="0" lang="be-BY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be-BY" sz="2400" spc="-1" strike="noStrike">
                <a:solidFill>
                  <a:srgbClr val="333399"/>
                </a:solidFill>
                <a:latin typeface="Arial"/>
              </a:rPr>
              <a:t>  Ні адной галінкі не зламаю, бо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be-BY" sz="2400" spc="-1" strike="noStrike">
                <a:solidFill>
                  <a:srgbClr val="333399"/>
                </a:solidFill>
                <a:latin typeface="Arial"/>
              </a:rPr>
              <a:t>б)          Я не заўважыў, калі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0" lang="be-BY" sz="2400" spc="-1" strike="noStrike">
                <a:solidFill>
                  <a:srgbClr val="333399"/>
                </a:solidFill>
                <a:latin typeface="Arial"/>
              </a:rPr>
              <a:t>в)</a:t>
            </a:r>
            <a:r>
              <a:rPr b="0" lang="be-BY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be-BY" sz="2400" spc="-1" strike="noStrike">
                <a:solidFill>
                  <a:srgbClr val="333399"/>
                </a:solidFill>
                <a:latin typeface="Arial"/>
              </a:rPr>
              <a:t>Унізе, дзе ,…….., зелянела палоска л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be-BY" sz="24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0" lang="be-BY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be-BY" sz="2400" spc="-1" strike="noStrike">
                <a:solidFill>
                  <a:srgbClr val="cc0000"/>
                </a:solidFill>
                <a:latin typeface="Arial"/>
              </a:rPr>
              <a:t>Назавіце від даданага с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11280" y="671760"/>
            <a:ext cx="8064360" cy="57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 u="sng">
                <a:solidFill>
                  <a:srgbClr val="cc0000"/>
                </a:solidFill>
                <a:uFillTx/>
                <a:latin typeface="Arial"/>
              </a:rPr>
              <a:t>Заданне   №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e-BY" sz="2800" spc="-1" strike="noStrike">
                <a:solidFill>
                  <a:srgbClr val="009999"/>
                </a:solidFill>
                <a:latin typeface="Arial"/>
              </a:rPr>
              <a:t>Ні адной галінкі не </a:t>
            </a:r>
            <a:r>
              <a:rPr b="1" lang="be-BY" sz="2800" spc="-1" strike="noStrike" u="sng">
                <a:solidFill>
                  <a:srgbClr val="009999"/>
                </a:solidFill>
                <a:uFillTx/>
                <a:latin typeface="Arial"/>
              </a:rPr>
              <a:t>зламаю</a:t>
            </a:r>
            <a:r>
              <a:rPr b="1" lang="be-BY" sz="2800" spc="-1" strike="noStrike">
                <a:solidFill>
                  <a:srgbClr val="009999"/>
                </a:solidFill>
                <a:latin typeface="Arial"/>
              </a:rPr>
              <a:t>, бо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чаму? дад.акал. прычы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б)   </a:t>
            </a:r>
            <a:r>
              <a:rPr b="1" lang="be-BY" sz="2800" spc="-1" strike="noStrike">
                <a:solidFill>
                  <a:srgbClr val="009999"/>
                </a:solidFill>
                <a:latin typeface="Arial"/>
              </a:rPr>
              <a:t>Я </a:t>
            </a:r>
            <a:r>
              <a:rPr b="1" lang="be-BY" sz="2800" spc="-1" strike="noStrike" u="sng">
                <a:solidFill>
                  <a:srgbClr val="009999"/>
                </a:solidFill>
                <a:uFillTx/>
                <a:latin typeface="Arial"/>
              </a:rPr>
              <a:t>не заўважыў</a:t>
            </a:r>
            <a:r>
              <a:rPr b="1" lang="be-BY" sz="2800" spc="-1" strike="noStrike">
                <a:solidFill>
                  <a:srgbClr val="009999"/>
                </a:solidFill>
                <a:latin typeface="Arial"/>
              </a:rPr>
              <a:t>, калі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чаго? дадан.дапаў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e-BY" sz="2800" spc="-1" strike="noStrike" u="sng">
                <a:solidFill>
                  <a:srgbClr val="009999"/>
                </a:solidFill>
                <a:uFillTx/>
                <a:latin typeface="Arial"/>
              </a:rPr>
              <a:t>Унізе</a:t>
            </a:r>
            <a:r>
              <a:rPr b="1" lang="be-BY" sz="2800" spc="-1" strike="noStrike">
                <a:solidFill>
                  <a:srgbClr val="009999"/>
                </a:solidFill>
                <a:latin typeface="Arial"/>
              </a:rPr>
              <a:t>, дзе ,…….., зелянела палоска л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дзе? дад.акал.месц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204840"/>
            <a:ext cx="9144000" cy="697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 u="sng">
                <a:solidFill>
                  <a:srgbClr val="336600"/>
                </a:solidFill>
                <a:uFillTx/>
                <a:latin typeface="Arial"/>
              </a:rPr>
              <a:t>Праца  ў  п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 u="sng">
                <a:solidFill>
                  <a:srgbClr val="333399"/>
                </a:solidFill>
                <a:uFillTx/>
                <a:latin typeface="Arial"/>
              </a:rPr>
              <a:t>З  простых  сказаў   складзіц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be-BY" sz="2800" spc="-1" strike="noStrike" u="sng">
                <a:solidFill>
                  <a:srgbClr val="333399"/>
                </a:solidFill>
                <a:uFillTx/>
                <a:latin typeface="Arial"/>
              </a:rPr>
              <a:t>складаназалежныя сказы  і  пабудуйце  сх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cc0000"/>
                </a:solidFill>
                <a:latin typeface="Arial"/>
              </a:rPr>
              <a:t>1.    Я  не  атрымліваў  пісьма і  таму  нічога  не  вед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cc0000"/>
                </a:solidFill>
                <a:latin typeface="Arial"/>
              </a:rPr>
              <a:t>Пра  якое  ты  гаворы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cc0000"/>
                </a:solidFill>
                <a:latin typeface="Arial"/>
              </a:rPr>
              <a:t>2. Яблыні,  пасаджаныя  чатыры  гады  таму,  дружна  зацві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35000" y="501480"/>
            <a:ext cx="871380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9900ff"/>
              </a:buClr>
              <a:buFont typeface="Arial"/>
              <a:buAutoNum type="arabicPeriod"/>
              <a:tabLst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9900ff"/>
                </a:solidFill>
                <a:latin typeface="Arial"/>
              </a:rPr>
              <a:t>Я  не  атрымліваў  </a:t>
            </a:r>
            <a:r>
              <a:rPr b="1" lang="be-BY" sz="3600" spc="-1" strike="noStrike" u="sng">
                <a:solidFill>
                  <a:srgbClr val="9900ff"/>
                </a:solidFill>
                <a:uFillTx/>
                <a:latin typeface="Arial"/>
              </a:rPr>
              <a:t>пісьма</a:t>
            </a:r>
            <a:r>
              <a:rPr b="1" lang="be-BY" sz="3600" spc="-1" strike="noStrike">
                <a:solidFill>
                  <a:srgbClr val="9900ff"/>
                </a:solidFill>
                <a:latin typeface="Arial"/>
              </a:rPr>
              <a:t>, пра  якое  ты  гаворыш,  таму  нічога  не  вед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яког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[ </a:t>
            </a:r>
            <a:r>
              <a:rPr b="1" lang="be-BY" sz="3600" spc="-1" strike="noStrike">
                <a:solidFill>
                  <a:srgbClr val="336600"/>
                </a:solidFill>
                <a:latin typeface="Arial"/>
              </a:rPr>
              <a:t>наз, ( якое …),…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336600"/>
              </a:buClr>
              <a:buFont typeface="Arial"/>
              <a:buAutoNum type="arabicPeriod"/>
              <a:tabLst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336600"/>
              </a:buClr>
              <a:buFont typeface="Arial"/>
              <a:buAutoNum type="arabicPeriod"/>
              <a:tabLst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9900ff"/>
                </a:solidFill>
                <a:latin typeface="Arial"/>
              </a:rPr>
              <a:t>2. </a:t>
            </a:r>
            <a:r>
              <a:rPr b="1" lang="be-BY" sz="3600" spc="-1" strike="noStrike" u="sng">
                <a:solidFill>
                  <a:srgbClr val="9900ff"/>
                </a:solidFill>
                <a:uFillTx/>
                <a:latin typeface="Arial"/>
              </a:rPr>
              <a:t>Яблыні</a:t>
            </a:r>
            <a:r>
              <a:rPr b="1" lang="be-BY" sz="3600" spc="-1" strike="noStrike">
                <a:solidFill>
                  <a:srgbClr val="9900ff"/>
                </a:solidFill>
                <a:latin typeface="Arial"/>
              </a:rPr>
              <a:t>,  якія  пасадзілі чатыры  гады  таму,  дружна  зацвіл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як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736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наз,(  як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я  …),</a:t>
            </a: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"/>
          <p:cNvSpPr/>
          <p:nvPr/>
        </p:nvSpPr>
        <p:spPr>
          <a:xfrm>
            <a:off x="3943440" y="2773440"/>
            <a:ext cx="1184040" cy="6062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3"/>
          <p:cNvSpPr/>
          <p:nvPr/>
        </p:nvSpPr>
        <p:spPr>
          <a:xfrm>
            <a:off x="3936960" y="5719680"/>
            <a:ext cx="1398600" cy="7495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"/>
          <p:cNvSpPr/>
          <p:nvPr/>
        </p:nvSpPr>
        <p:spPr>
          <a:xfrm>
            <a:off x="4044960" y="5796000"/>
            <a:ext cx="1184400" cy="60624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3"/>
          <p:cNvSpPr txBox="1"/>
          <p:nvPr/>
        </p:nvSpPr>
        <p:spPr>
          <a:xfrm>
            <a:off x="882720" y="549360"/>
            <a:ext cx="58212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не № 2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132000" y="1570320"/>
            <a:ext cx="3225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82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які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2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[... наз.,(  што  ...), ...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2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2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2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як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2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[... наз..],(  якая  ….)</a:t>
            </a: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2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539640" y="3933720"/>
            <a:ext cx="756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 Складзіце па схемах складаназалежныя сказы,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1620720" y="4653000"/>
            <a:ext cx="43243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карыстовываючы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ляровыя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1339920" y="5516640"/>
            <a:ext cx="52578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ілюстрацыі  беларускіх  краявідаў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Овал 8"/>
          <p:cNvSpPr/>
          <p:nvPr/>
        </p:nvSpPr>
        <p:spPr>
          <a:xfrm>
            <a:off x="4815000" y="3484440"/>
            <a:ext cx="75888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9"/>
          <p:cNvSpPr/>
          <p:nvPr/>
        </p:nvSpPr>
        <p:spPr>
          <a:xfrm>
            <a:off x="4549680" y="2019240"/>
            <a:ext cx="712800" cy="34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0"/>
          <p:cNvSpPr/>
          <p:nvPr/>
        </p:nvSpPr>
        <p:spPr>
          <a:xfrm>
            <a:off x="4484520" y="1959120"/>
            <a:ext cx="85752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1"/>
          <p:cNvSpPr/>
          <p:nvPr/>
        </p:nvSpPr>
        <p:spPr>
          <a:xfrm>
            <a:off x="4735440" y="3408480"/>
            <a:ext cx="938160" cy="520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9:15:20Z</dcterms:created>
  <dc:creator>Teacher_</dc:creator>
  <dc:description/>
  <dc:language>en-US</dc:language>
  <cp:lastModifiedBy>Teacher_</cp:lastModifiedBy>
  <dcterms:modified xsi:type="dcterms:W3CDTF">2008-12-10T12:56:45Z</dcterms:modified>
  <cp:revision>7</cp:revision>
  <dc:subject/>
  <dc:title>Слайд 1</dc:title>
</cp:coreProperties>
</file>